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30D-91F6-4965-82F9-782AAB32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08A-A212-44A3-B809-8018EDCE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664-D56F-458B-83C9-8DEAB2CC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747-029B-405C-BAA7-C9E042CE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1A8-1A83-43F3-8BBA-C457B125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151-7F68-4920-97FC-7762A8FC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B1B-9EB7-463B-BFA0-9FC09157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9AB-0509-4E53-A4A4-8D12AC65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C26-9E05-415E-8AE3-B2CE87D6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79D-D8E2-4BCC-AFC8-72154B4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2B4-A793-4452-B3CF-5C6F412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AC9-514C-4FD0-8FD1-E24B64E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C75D-9D01-4674-AE60-BF1D99D0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thern California Fi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20487" b="0"/>
          <a:stretch/>
        </p:blipFill>
        <p:spPr>
          <a:xfrm>
            <a:off x="228600" y="304812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0" r="12442" b="0"/>
          <a:stretch/>
        </p:blipFill>
        <p:spPr>
          <a:xfrm>
            <a:off x="228600" y="472428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0" r="20487" b="0"/>
          <a:stretch/>
        </p:blipFill>
        <p:spPr>
          <a:xfrm>
            <a:off x="2438280" y="3048120"/>
            <a:ext cx="210204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/>
          <a:srcRect l="0" t="0" r="12442" b="0"/>
          <a:stretch/>
        </p:blipFill>
        <p:spPr>
          <a:xfrm>
            <a:off x="2438280" y="4724280"/>
            <a:ext cx="210204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5"/>
          <a:srcRect l="0" t="0" r="20487" b="0"/>
          <a:stretch/>
        </p:blipFill>
        <p:spPr>
          <a:xfrm>
            <a:off x="4648320" y="304812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6"/>
          <a:srcRect l="0" t="0" r="20487" b="0"/>
          <a:stretch/>
        </p:blipFill>
        <p:spPr>
          <a:xfrm>
            <a:off x="4648320" y="472428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7"/>
          <a:srcRect l="0" t="0" r="12442" b="0"/>
          <a:stretch/>
        </p:blipFill>
        <p:spPr>
          <a:xfrm>
            <a:off x="6858000" y="304812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8"/>
          <a:srcRect l="0" t="0" r="12442" b="0"/>
          <a:stretch/>
        </p:blipFill>
        <p:spPr>
          <a:xfrm>
            <a:off x="6858000" y="472428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9"/>
          <a:srcRect l="0" t="0" r="20487" b="0"/>
          <a:stretch/>
        </p:blipFill>
        <p:spPr>
          <a:xfrm>
            <a:off x="244440" y="1386000"/>
            <a:ext cx="210204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10"/>
          <a:srcRect l="0" t="0" r="20487" b="0"/>
          <a:stretch/>
        </p:blipFill>
        <p:spPr>
          <a:xfrm>
            <a:off x="2438280" y="1414440"/>
            <a:ext cx="210204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11"/>
          <a:srcRect l="0" t="0" r="20487" b="0"/>
          <a:stretch/>
        </p:blipFill>
        <p:spPr>
          <a:xfrm>
            <a:off x="4648320" y="141444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12"/>
          <a:srcRect l="0" t="0" r="20487" b="0"/>
          <a:stretch/>
        </p:blipFill>
        <p:spPr>
          <a:xfrm>
            <a:off x="6858000" y="1414440"/>
            <a:ext cx="210168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447920" y="3124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I/TOMS - Absorbing Aerosol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4648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I/TOMS – Tropospheric N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914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 2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 22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 23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 24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al Fires: Analysts Cons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al Fires: Analysts Cons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7:11:19Z</dcterms:created>
  <dc:creator>Rudy</dc:creator>
  <dc:description/>
  <dc:language>en-US</dc:language>
  <cp:lastModifiedBy>Rudy</cp:lastModifiedBy>
  <dcterms:modified xsi:type="dcterms:W3CDTF">2007-10-30T22:13:16Z</dcterms:modified>
  <cp:revision>74</cp:revision>
  <dc:subject/>
  <dc:title>HTAP Juelich</dc:title>
</cp:coreProperties>
</file>